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B1665-A117-4184-8450-CCB57CB46B5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F6C9E3-C79C-4877-B55F-B8F6ECB208F7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egnaposto numero diapositiva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3B0D8A-338B-4B32-B435-14922A6D3CC8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8760"/>
                <a:tab algn="l" pos="858960"/>
                <a:tab algn="l" pos="1290600"/>
                <a:tab algn="l" pos="1720800"/>
                <a:tab algn="l" pos="2152800"/>
                <a:tab algn="l" pos="2584440"/>
                <a:tab algn="l" pos="3014640"/>
                <a:tab algn="l" pos="3446640"/>
                <a:tab algn="l" pos="3878280"/>
                <a:tab algn="l" pos="4308480"/>
                <a:tab algn="l" pos="4740120"/>
                <a:tab algn="l" pos="5170320"/>
                <a:tab algn="l" pos="5602320"/>
                <a:tab algn="l" pos="6033960"/>
                <a:tab algn="l" pos="6464160"/>
                <a:tab algn="l" pos="6896160"/>
                <a:tab algn="l" pos="7327800"/>
                <a:tab algn="l" pos="7758000"/>
                <a:tab algn="l" pos="8190000"/>
                <a:tab algn="l" pos="8620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85985-3B73-4908-8FA5-8E06E506EEFD}" type="slidenum">
              <a:rPr b="1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3520"/>
                <a:tab algn="l" pos="2800440"/>
                <a:tab algn="l" pos="3267000"/>
                <a:tab algn="l" pos="3733920"/>
                <a:tab algn="l" pos="4202280"/>
                <a:tab algn="l" pos="4668840"/>
                <a:tab algn="l" pos="5135400"/>
                <a:tab algn="l" pos="5602320"/>
                <a:tab algn="l" pos="6070680"/>
                <a:tab algn="l" pos="6537240"/>
                <a:tab algn="l" pos="7004160"/>
                <a:tab algn="l" pos="7470720"/>
                <a:tab algn="l" pos="7939080"/>
                <a:tab algn="l" pos="8405640"/>
                <a:tab algn="l" pos="8872560"/>
                <a:tab algn="l" pos="9339120"/>
                <a:tab algn="l" pos="9601200"/>
                <a:tab algn="l" pos="10058400"/>
                <a:tab algn="l" pos="10515600"/>
              </a:tabLst>
            </a:pPr>
            <a:fld id="{B07D0685-12CC-4722-B0BB-8C9492849976}" type="slidenum">
              <a:rPr b="1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919680" y="8043840"/>
            <a:ext cx="3000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3520"/>
                <a:tab algn="l" pos="2800440"/>
                <a:tab algn="l" pos="3267000"/>
                <a:tab algn="l" pos="3733920"/>
                <a:tab algn="l" pos="4202280"/>
                <a:tab algn="l" pos="4668840"/>
                <a:tab algn="l" pos="5135400"/>
                <a:tab algn="l" pos="5602320"/>
                <a:tab algn="l" pos="6070680"/>
                <a:tab algn="l" pos="6537240"/>
                <a:tab algn="l" pos="7004160"/>
                <a:tab algn="l" pos="7470720"/>
                <a:tab algn="l" pos="7939080"/>
                <a:tab algn="l" pos="8405640"/>
                <a:tab algn="l" pos="8872560"/>
                <a:tab algn="l" pos="9339120"/>
                <a:tab algn="l" pos="9601200"/>
                <a:tab algn="l" pos="10058400"/>
                <a:tab algn="l" pos="10515600"/>
              </a:tabLst>
            </a:pPr>
            <a:fld id="{F68C71C2-A99E-49C1-94D7-297365529186}" type="slidenum">
              <a:rPr b="1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41360" y="633240"/>
            <a:ext cx="4238640" cy="3178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92280" y="4017960"/>
            <a:ext cx="5535360" cy="381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8760"/>
                <a:tab algn="l" pos="858960"/>
                <a:tab algn="l" pos="1290600"/>
                <a:tab algn="l" pos="1720800"/>
                <a:tab algn="l" pos="2152800"/>
                <a:tab algn="l" pos="2584440"/>
                <a:tab algn="l" pos="3014640"/>
                <a:tab algn="l" pos="3446640"/>
                <a:tab algn="l" pos="3878280"/>
                <a:tab algn="l" pos="4308480"/>
                <a:tab algn="l" pos="4740120"/>
                <a:tab algn="l" pos="5170320"/>
                <a:tab algn="l" pos="5602320"/>
                <a:tab algn="l" pos="6033960"/>
                <a:tab algn="l" pos="6464160"/>
                <a:tab algn="l" pos="6896160"/>
                <a:tab algn="l" pos="7327800"/>
                <a:tab algn="l" pos="7758000"/>
                <a:tab algn="l" pos="8190000"/>
                <a:tab algn="l" pos="8620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2A479-8487-4F85-BDBA-5D9B3DD39546}" type="slidenum">
              <a:rPr b="1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3520"/>
                <a:tab algn="l" pos="2800440"/>
                <a:tab algn="l" pos="3267000"/>
                <a:tab algn="l" pos="3733920"/>
                <a:tab algn="l" pos="4202280"/>
                <a:tab algn="l" pos="4668840"/>
                <a:tab algn="l" pos="5135400"/>
                <a:tab algn="l" pos="5602320"/>
                <a:tab algn="l" pos="6070680"/>
                <a:tab algn="l" pos="6537240"/>
                <a:tab algn="l" pos="7004160"/>
                <a:tab algn="l" pos="7470720"/>
                <a:tab algn="l" pos="7939080"/>
                <a:tab algn="l" pos="8405640"/>
                <a:tab algn="l" pos="8872560"/>
                <a:tab algn="l" pos="9339120"/>
                <a:tab algn="l" pos="9601200"/>
                <a:tab algn="l" pos="10058400"/>
                <a:tab algn="l" pos="10515600"/>
              </a:tabLst>
            </a:pPr>
            <a:fld id="{D24D5BCC-BEF4-44DD-9ECA-FA2F77CEBEBB}" type="slidenum">
              <a:rPr b="1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919680" y="8043840"/>
            <a:ext cx="3000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3520"/>
                <a:tab algn="l" pos="2800440"/>
                <a:tab algn="l" pos="3267000"/>
                <a:tab algn="l" pos="3733920"/>
                <a:tab algn="l" pos="4202280"/>
                <a:tab algn="l" pos="4668840"/>
                <a:tab algn="l" pos="5135400"/>
                <a:tab algn="l" pos="5602320"/>
                <a:tab algn="l" pos="6070680"/>
                <a:tab algn="l" pos="6537240"/>
                <a:tab algn="l" pos="7004160"/>
                <a:tab algn="l" pos="7470720"/>
                <a:tab algn="l" pos="7939080"/>
                <a:tab algn="l" pos="8405640"/>
                <a:tab algn="l" pos="8872560"/>
                <a:tab algn="l" pos="9339120"/>
                <a:tab algn="l" pos="9601200"/>
                <a:tab algn="l" pos="10058400"/>
                <a:tab algn="l" pos="10515600"/>
              </a:tabLst>
            </a:pPr>
            <a:fld id="{B172C258-03A5-4B7F-88EB-5C9D225CA78F}" type="slidenum">
              <a:rPr b="1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41360" y="633240"/>
            <a:ext cx="4238640" cy="3178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2280" y="4017960"/>
            <a:ext cx="5535360" cy="381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F62BD-4656-4755-953E-6D12C4166F8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C0C5A-4F80-46E3-BA4B-7B030D81300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04628-94E4-4678-A605-570DA6C87D1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8760"/>
                <a:tab algn="l" pos="858960"/>
                <a:tab algn="l" pos="1290600"/>
                <a:tab algn="l" pos="1720800"/>
                <a:tab algn="l" pos="2152800"/>
                <a:tab algn="l" pos="2584440"/>
                <a:tab algn="l" pos="3014640"/>
                <a:tab algn="l" pos="3446640"/>
                <a:tab algn="l" pos="3878280"/>
                <a:tab algn="l" pos="4308480"/>
                <a:tab algn="l" pos="4740120"/>
                <a:tab algn="l" pos="5170320"/>
                <a:tab algn="l" pos="5602320"/>
                <a:tab algn="l" pos="6033960"/>
                <a:tab algn="l" pos="6464160"/>
                <a:tab algn="l" pos="6896160"/>
                <a:tab algn="l" pos="7327800"/>
                <a:tab algn="l" pos="7758000"/>
                <a:tab algn="l" pos="8190000"/>
                <a:tab algn="l" pos="8620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DB286-E2D3-428F-8B6C-67C2F6109A5A}" type="slidenum">
              <a:rPr b="1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3520"/>
                <a:tab algn="l" pos="2800440"/>
                <a:tab algn="l" pos="3267000"/>
                <a:tab algn="l" pos="3733920"/>
                <a:tab algn="l" pos="4202280"/>
                <a:tab algn="l" pos="4668840"/>
                <a:tab algn="l" pos="5135400"/>
                <a:tab algn="l" pos="5602320"/>
                <a:tab algn="l" pos="6070680"/>
                <a:tab algn="l" pos="6537240"/>
                <a:tab algn="l" pos="7004160"/>
                <a:tab algn="l" pos="7470720"/>
                <a:tab algn="l" pos="7939080"/>
                <a:tab algn="l" pos="8405640"/>
                <a:tab algn="l" pos="8872560"/>
                <a:tab algn="l" pos="9339120"/>
                <a:tab algn="l" pos="9601200"/>
                <a:tab algn="l" pos="10058400"/>
                <a:tab algn="l" pos="10515600"/>
              </a:tabLst>
            </a:pPr>
            <a:fld id="{2020B723-AA13-434F-A1F5-50196D899EEB}" type="slidenum">
              <a:rPr b="1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919680" y="8043840"/>
            <a:ext cx="3000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3520"/>
                <a:tab algn="l" pos="2800440"/>
                <a:tab algn="l" pos="3267000"/>
                <a:tab algn="l" pos="3733920"/>
                <a:tab algn="l" pos="4202280"/>
                <a:tab algn="l" pos="4668840"/>
                <a:tab algn="l" pos="5135400"/>
                <a:tab algn="l" pos="5602320"/>
                <a:tab algn="l" pos="6070680"/>
                <a:tab algn="l" pos="6537240"/>
                <a:tab algn="l" pos="7004160"/>
                <a:tab algn="l" pos="7470720"/>
                <a:tab algn="l" pos="7939080"/>
                <a:tab algn="l" pos="8405640"/>
                <a:tab algn="l" pos="8872560"/>
                <a:tab algn="l" pos="9339120"/>
                <a:tab algn="l" pos="9601200"/>
                <a:tab algn="l" pos="10058400"/>
                <a:tab algn="l" pos="10515600"/>
              </a:tabLst>
            </a:pPr>
            <a:fld id="{C69E243C-0DD6-41C2-A51C-ED0132879932}" type="slidenum">
              <a:rPr b="1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41360" y="633240"/>
            <a:ext cx="4238640" cy="3178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92280" y="4017960"/>
            <a:ext cx="5535360" cy="381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3C957-6052-45A3-93E1-73E665CB6C7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BC6-25C3-43BD-8FC6-5D0441BA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DA8-B148-4691-8870-74C2B91D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0F1-1DCF-49ED-A44F-219C5D93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E10-9613-47C3-B457-30B56C7F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90E-F0F5-4C52-86EF-DD73B080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124-1A97-4CC8-B517-60B4465A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52D-6ACF-4E3A-82AA-A3DF57CB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550-D8E2-4FF2-A464-61788BF3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3FB-B815-4AAA-BED6-24E0E39F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363-0EBC-463B-AFCA-5705175B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312-B702-4451-A168-37650F2B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53B-1F2D-4E14-8B67-2D1862F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63859-49A6-451D-A1DF-F6B865AE400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staff@vsix.i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06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79280" y="4316400"/>
            <a:ext cx="878688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LUCA FINOT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Technical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41440" y="1197000"/>
            <a:ext cx="6264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0" y="0"/>
            <a:ext cx="9142560" cy="1366920"/>
            <a:chOff x="0" y="0"/>
            <a:chExt cx="9142560" cy="1366920"/>
          </a:xfrm>
        </p:grpSpPr>
        <p:sp>
          <p:nvSpPr>
            <p:cNvPr id="156" name="Rectangle 3"/>
            <p:cNvSpPr/>
            <p:nvPr/>
          </p:nvSpPr>
          <p:spPr>
            <a:xfrm>
              <a:off x="0" y="0"/>
              <a:ext cx="9142560" cy="1366920"/>
            </a:xfrm>
            <a:prstGeom prst="rect">
              <a:avLst/>
            </a:prstGeom>
            <a:solidFill>
              <a:srgbClr val="b30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179280" y="168120"/>
              <a:ext cx="2300400" cy="10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5362560" y="299880"/>
              <a:ext cx="343548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Rectangle 6"/>
          <p:cNvSpPr/>
          <p:nvPr/>
        </p:nvSpPr>
        <p:spPr>
          <a:xfrm>
            <a:off x="888840" y="1523880"/>
            <a:ext cx="7560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otivate peering agre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nhance the carrier to simplify access to the 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llaborate with others IX about peering disse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nd patnership with neutral data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tipulate new development agreements with cloud poviders and content delivery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CasellaDiTesto 1"/>
          <p:cNvSpPr/>
          <p:nvPr/>
        </p:nvSpPr>
        <p:spPr>
          <a:xfrm>
            <a:off x="4668840" y="45720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Calibri"/>
              </a:rPr>
              <a:t>Developmen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9142560" cy="1366920"/>
            <a:chOff x="0" y="0"/>
            <a:chExt cx="9142560" cy="1366920"/>
          </a:xfrm>
        </p:grpSpPr>
        <p:sp>
          <p:nvSpPr>
            <p:cNvPr id="162" name="Rectangle 3"/>
            <p:cNvSpPr/>
            <p:nvPr/>
          </p:nvSpPr>
          <p:spPr>
            <a:xfrm>
              <a:off x="0" y="0"/>
              <a:ext cx="9142560" cy="1366920"/>
            </a:xfrm>
            <a:prstGeom prst="rect">
              <a:avLst/>
            </a:prstGeom>
            <a:solidFill>
              <a:srgbClr val="b30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Picture 4" descr=""/>
            <p:cNvPicPr/>
            <p:nvPr/>
          </p:nvPicPr>
          <p:blipFill>
            <a:blip r:embed="rId1"/>
            <a:stretch/>
          </p:blipFill>
          <p:spPr>
            <a:xfrm>
              <a:off x="179280" y="168120"/>
              <a:ext cx="2300400" cy="10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5"/>
            <p:cNvSpPr/>
            <p:nvPr/>
          </p:nvSpPr>
          <p:spPr>
            <a:xfrm>
              <a:off x="5362560" y="299880"/>
              <a:ext cx="343548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Rectangle 6"/>
          <p:cNvSpPr/>
          <p:nvPr/>
        </p:nvSpPr>
        <p:spPr>
          <a:xfrm>
            <a:off x="720720" y="152388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asellaDiTesto 1"/>
          <p:cNvSpPr/>
          <p:nvPr/>
        </p:nvSpPr>
        <p:spPr>
          <a:xfrm>
            <a:off x="4668840" y="45720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Calibri"/>
              </a:rPr>
              <a:t>Cont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CasellaDiTesto 2"/>
          <p:cNvSpPr/>
          <p:nvPr/>
        </p:nvSpPr>
        <p:spPr>
          <a:xfrm>
            <a:off x="780120" y="1571760"/>
            <a:ext cx="441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taff VSIX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aola Bregolat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ite 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uca Finott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echnical 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essio Celin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frastructure and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arita Santor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dministrative su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ristian Marangon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echnical su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asellaDiTesto 4"/>
          <p:cNvSpPr/>
          <p:nvPr/>
        </p:nvSpPr>
        <p:spPr>
          <a:xfrm>
            <a:off x="2820960" y="4284720"/>
            <a:ext cx="35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taff@vsix.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alleria Spagna,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35127 Padova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6959520" y="4524480"/>
            <a:ext cx="1792440" cy="86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41"/>
          <p:cNvSpPr/>
          <p:nvPr/>
        </p:nvSpPr>
        <p:spPr>
          <a:xfrm>
            <a:off x="7326720" y="4724280"/>
            <a:ext cx="11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ut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ata Cent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-31680" y="0"/>
            <a:ext cx="9142200" cy="1366920"/>
            <a:chOff x="-31680" y="0"/>
            <a:chExt cx="9142200" cy="1366920"/>
          </a:xfrm>
        </p:grpSpPr>
        <p:sp>
          <p:nvSpPr>
            <p:cNvPr id="53" name="Rectangle 3"/>
            <p:cNvSpPr/>
            <p:nvPr/>
          </p:nvSpPr>
          <p:spPr>
            <a:xfrm>
              <a:off x="-31680" y="0"/>
              <a:ext cx="9142200" cy="1366920"/>
            </a:xfrm>
            <a:prstGeom prst="rect">
              <a:avLst/>
            </a:prstGeom>
            <a:solidFill>
              <a:srgbClr val="b30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4" descr=""/>
            <p:cNvPicPr/>
            <p:nvPr/>
          </p:nvPicPr>
          <p:blipFill>
            <a:blip r:embed="rId2"/>
            <a:stretch/>
          </p:blipFill>
          <p:spPr>
            <a:xfrm>
              <a:off x="179280" y="168120"/>
              <a:ext cx="2300400" cy="10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6"/>
          <p:cNvSpPr/>
          <p:nvPr/>
        </p:nvSpPr>
        <p:spPr>
          <a:xfrm>
            <a:off x="3189240" y="4064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LOGICAL SC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uppo 3"/>
          <p:cNvGrpSpPr/>
          <p:nvPr/>
        </p:nvGrpSpPr>
        <p:grpSpPr>
          <a:xfrm>
            <a:off x="911160" y="1374840"/>
            <a:ext cx="7383600" cy="4948200"/>
            <a:chOff x="911160" y="1374840"/>
            <a:chExt cx="7383600" cy="4948200"/>
          </a:xfrm>
        </p:grpSpPr>
        <p:sp>
          <p:nvSpPr>
            <p:cNvPr id="57" name="Rectangle 1"/>
            <p:cNvSpPr/>
            <p:nvPr/>
          </p:nvSpPr>
          <p:spPr>
            <a:xfrm>
              <a:off x="5920200" y="2381040"/>
              <a:ext cx="835200" cy="525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1"/>
            <p:cNvSpPr/>
            <p:nvPr/>
          </p:nvSpPr>
          <p:spPr>
            <a:xfrm>
              <a:off x="6337800" y="2917800"/>
              <a:ext cx="835200" cy="526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"/>
            <p:cNvSpPr/>
            <p:nvPr/>
          </p:nvSpPr>
          <p:spPr>
            <a:xfrm>
              <a:off x="5772240" y="1431720"/>
              <a:ext cx="1792080" cy="860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"/>
            <p:cNvSpPr/>
            <p:nvPr/>
          </p:nvSpPr>
          <p:spPr>
            <a:xfrm>
              <a:off x="1246320" y="1932480"/>
              <a:ext cx="2414520" cy="1312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3"/>
            <p:cNvSpPr/>
            <p:nvPr/>
          </p:nvSpPr>
          <p:spPr>
            <a:xfrm>
              <a:off x="911160" y="2146680"/>
              <a:ext cx="73836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Picture 8" descr=""/>
            <p:cNvPicPr/>
            <p:nvPr/>
          </p:nvPicPr>
          <p:blipFill>
            <a:blip r:embed="rId7"/>
            <a:stretch/>
          </p:blipFill>
          <p:spPr>
            <a:xfrm>
              <a:off x="4711680" y="5000040"/>
              <a:ext cx="2433240" cy="11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9"/>
            <p:cNvSpPr/>
            <p:nvPr/>
          </p:nvSpPr>
          <p:spPr>
            <a:xfrm>
              <a:off x="5016600" y="5183280"/>
              <a:ext cx="20779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gion of Venet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1200" spc="-1" strike="noStrike">
                  <a:solidFill>
                    <a:srgbClr val="558ed5"/>
                  </a:solidFill>
                  <a:latin typeface="Arial"/>
                </a:rPr>
                <a:t>Province of Padov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1200" spc="-1" strike="noStrike">
                  <a:solidFill>
                    <a:srgbClr val="558ed5"/>
                  </a:solidFill>
                  <a:latin typeface="Arial"/>
                </a:rPr>
                <a:t>Padova Town hal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1512360" y="3181320"/>
              <a:ext cx="1551600" cy="8204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 Box 11"/>
            <p:cNvSpPr/>
            <p:nvPr/>
          </p:nvSpPr>
          <p:spPr>
            <a:xfrm>
              <a:off x="6055200" y="1374840"/>
              <a:ext cx="1379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 Box 16"/>
            <p:cNvSpPr/>
            <p:nvPr/>
          </p:nvSpPr>
          <p:spPr>
            <a:xfrm>
              <a:off x="2082960" y="2327400"/>
              <a:ext cx="8182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GAR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 Box 18"/>
            <p:cNvSpPr/>
            <p:nvPr/>
          </p:nvSpPr>
          <p:spPr>
            <a:xfrm>
              <a:off x="1857960" y="3377880"/>
              <a:ext cx="10360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UNIP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3660840" y="3107520"/>
              <a:ext cx="2165040" cy="13730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VSI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13"/>
            <p:cNvSpPr/>
            <p:nvPr/>
          </p:nvSpPr>
          <p:spPr>
            <a:xfrm>
              <a:off x="2894040" y="3705120"/>
              <a:ext cx="1034280" cy="3762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17"/>
            <p:cNvSpPr/>
            <p:nvPr/>
          </p:nvSpPr>
          <p:spPr>
            <a:xfrm>
              <a:off x="3169440" y="2982960"/>
              <a:ext cx="759240" cy="6148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1"/>
            <p:cNvSpPr/>
            <p:nvPr/>
          </p:nvSpPr>
          <p:spPr>
            <a:xfrm>
              <a:off x="5084640" y="2117520"/>
              <a:ext cx="835200" cy="5266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CasellaDiTesto 26"/>
            <p:cNvSpPr/>
            <p:nvPr/>
          </p:nvSpPr>
          <p:spPr>
            <a:xfrm>
              <a:off x="5380200" y="22237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I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14"/>
            <p:cNvSpPr/>
            <p:nvPr/>
          </p:nvSpPr>
          <p:spPr>
            <a:xfrm flipH="1">
              <a:off x="5443560" y="2828880"/>
              <a:ext cx="677880" cy="7459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14"/>
            <p:cNvSpPr/>
            <p:nvPr/>
          </p:nvSpPr>
          <p:spPr>
            <a:xfrm flipH="1">
              <a:off x="5297760" y="2557440"/>
              <a:ext cx="171720" cy="8780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15"/>
            <p:cNvSpPr/>
            <p:nvPr/>
          </p:nvSpPr>
          <p:spPr>
            <a:xfrm flipH="1" flipV="1">
              <a:off x="5469840" y="4246200"/>
              <a:ext cx="460800" cy="772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1150200" y="4246200"/>
              <a:ext cx="1863720" cy="9853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TOPI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17"/>
            <p:cNvSpPr/>
            <p:nvPr/>
          </p:nvSpPr>
          <p:spPr>
            <a:xfrm flipH="1">
              <a:off x="2894040" y="4230360"/>
              <a:ext cx="1185120" cy="3920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>
              <a:off x="5654160" y="3903120"/>
              <a:ext cx="827640" cy="0"/>
            </a:xfrm>
            <a:prstGeom prst="line">
              <a:avLst/>
            </a:prstGeom>
            <a:ln w="3600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12"/>
            <p:cNvSpPr/>
            <p:nvPr/>
          </p:nvSpPr>
          <p:spPr>
            <a:xfrm>
              <a:off x="6481800" y="3517560"/>
              <a:ext cx="1522440" cy="7711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Campus Fiber Optic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5589720" y="3281040"/>
              <a:ext cx="924840" cy="4327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CasellaDiTesto 27"/>
            <p:cNvSpPr/>
            <p:nvPr/>
          </p:nvSpPr>
          <p:spPr>
            <a:xfrm>
              <a:off x="6515280" y="2943720"/>
              <a:ext cx="89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alibri"/>
                </a:rPr>
                <a:t>CLOUD PROVIDER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7"/>
            <p:cNvSpPr/>
            <p:nvPr/>
          </p:nvSpPr>
          <p:spPr>
            <a:xfrm>
              <a:off x="5564160" y="4100400"/>
              <a:ext cx="1608120" cy="6238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2398320" y="5385240"/>
              <a:ext cx="2144520" cy="93780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17"/>
            <p:cNvSpPr/>
            <p:nvPr/>
          </p:nvSpPr>
          <p:spPr>
            <a:xfrm flipH="1">
              <a:off x="3928320" y="4363920"/>
              <a:ext cx="674280" cy="11221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CasellaDiTesto 27"/>
            <p:cNvSpPr/>
            <p:nvPr/>
          </p:nvSpPr>
          <p:spPr>
            <a:xfrm>
              <a:off x="6000120" y="2544840"/>
              <a:ext cx="663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alibri"/>
                </a:rPr>
                <a:t>CARRIER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CasellaDiTesto 1"/>
          <p:cNvSpPr/>
          <p:nvPr/>
        </p:nvSpPr>
        <p:spPr>
          <a:xfrm>
            <a:off x="2775240" y="5092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EMOTE PE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sellaDiTesto 38"/>
          <p:cNvSpPr/>
          <p:nvPr/>
        </p:nvSpPr>
        <p:spPr>
          <a:xfrm>
            <a:off x="3014640" y="5464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aMe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MSI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4403880" y="1690560"/>
            <a:ext cx="834840" cy="52704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898880" y="2224080"/>
            <a:ext cx="117720" cy="1057320"/>
          </a:xfrm>
          <a:prstGeom prst="line">
            <a:avLst/>
          </a:prstGeom>
          <a:ln w="360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sellaDiTesto 26"/>
          <p:cNvSpPr/>
          <p:nvPr/>
        </p:nvSpPr>
        <p:spPr>
          <a:xfrm>
            <a:off x="4581360" y="1797120"/>
            <a:ext cx="5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D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-31680" y="0"/>
            <a:ext cx="9142200" cy="1366920"/>
          </a:xfrm>
          <a:prstGeom prst="rect">
            <a:avLst/>
          </a:prstGeom>
          <a:solidFill>
            <a:srgbClr val="b30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uppo 1"/>
          <p:cNvGrpSpPr/>
          <p:nvPr/>
        </p:nvGrpSpPr>
        <p:grpSpPr>
          <a:xfrm>
            <a:off x="179280" y="1366920"/>
            <a:ext cx="2268720" cy="3107520"/>
            <a:chOff x="179280" y="1366920"/>
            <a:chExt cx="2268720" cy="3107520"/>
          </a:xfrm>
        </p:grpSpPr>
        <p:sp>
          <p:nvSpPr>
            <p:cNvPr id="93" name="Rectangle 7"/>
            <p:cNvSpPr/>
            <p:nvPr/>
          </p:nvSpPr>
          <p:spPr>
            <a:xfrm>
              <a:off x="179280" y="2185920"/>
              <a:ext cx="2268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ritish Teleco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g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fraco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terout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astwe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lecom Itali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eteli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380880" y="1366920"/>
              <a:ext cx="18655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National International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uppo 2"/>
          <p:cNvGrpSpPr/>
          <p:nvPr/>
        </p:nvGrpSpPr>
        <p:grpSpPr>
          <a:xfrm>
            <a:off x="2246400" y="1365120"/>
            <a:ext cx="1944720" cy="5438880"/>
            <a:chOff x="2246400" y="1365120"/>
            <a:chExt cx="1944720" cy="5438880"/>
          </a:xfrm>
        </p:grpSpPr>
        <p:sp>
          <p:nvSpPr>
            <p:cNvPr id="96" name="Rectangle 9"/>
            <p:cNvSpPr/>
            <p:nvPr/>
          </p:nvSpPr>
          <p:spPr>
            <a:xfrm>
              <a:off x="2549520" y="1365120"/>
              <a:ext cx="139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3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Regional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2246400" y="1808280"/>
              <a:ext cx="1944720" cy="49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bilen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anth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MT Servi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scoTLC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sdas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igis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4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terplane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prou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ep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ida Solution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etglob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icebl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S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asubio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edd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ynaps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ler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Unica TL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Yari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ifiw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Z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PSyste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uppo 3"/>
          <p:cNvGrpSpPr/>
          <p:nvPr/>
        </p:nvGrpSpPr>
        <p:grpSpPr>
          <a:xfrm>
            <a:off x="4429080" y="1411200"/>
            <a:ext cx="2187720" cy="1784880"/>
            <a:chOff x="4429080" y="1411200"/>
            <a:chExt cx="2187720" cy="1784880"/>
          </a:xfrm>
        </p:grpSpPr>
        <p:sp>
          <p:nvSpPr>
            <p:cNvPr id="99" name="Rectangle 11"/>
            <p:cNvSpPr/>
            <p:nvPr/>
          </p:nvSpPr>
          <p:spPr>
            <a:xfrm>
              <a:off x="4429080" y="2004840"/>
              <a:ext cx="218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egione Vene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Univ. Padov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ar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4583520" y="141120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stitution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uppo 4"/>
          <p:cNvGrpSpPr/>
          <p:nvPr/>
        </p:nvGrpSpPr>
        <p:grpSpPr>
          <a:xfrm>
            <a:off x="4429080" y="3579840"/>
            <a:ext cx="2710080" cy="2751840"/>
            <a:chOff x="4429080" y="3579840"/>
            <a:chExt cx="2710080" cy="2751840"/>
          </a:xfrm>
        </p:grpSpPr>
        <p:sp>
          <p:nvSpPr>
            <p:cNvPr id="102" name="Text Box 13"/>
            <p:cNvSpPr/>
            <p:nvPr/>
          </p:nvSpPr>
          <p:spPr>
            <a:xfrm>
              <a:off x="4429080" y="3579840"/>
              <a:ext cx="27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Services and IXP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4649760" y="4043160"/>
              <a:ext cx="2268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kama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oog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op-I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oling Mi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Me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msi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Rectangle 6"/>
          <p:cNvSpPr/>
          <p:nvPr/>
        </p:nvSpPr>
        <p:spPr>
          <a:xfrm>
            <a:off x="2143080" y="361800"/>
            <a:ext cx="69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Calibri"/>
              </a:rPr>
              <a:t>Interconnected Services and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ttangolo 3"/>
          <p:cNvSpPr/>
          <p:nvPr/>
        </p:nvSpPr>
        <p:spPr>
          <a:xfrm>
            <a:off x="7139160" y="1994040"/>
            <a:ext cx="1847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Aem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Cesena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Cl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Colteng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C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Elsy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Mic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Netand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Nex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Sistemiu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St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Topix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Vo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Hurric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6943680" y="14112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Calibri"/>
              </a:rPr>
              <a:t>14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 Rem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79280" y="168120"/>
            <a:ext cx="2300400" cy="10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-31680" y="0"/>
            <a:ext cx="9142200" cy="1366920"/>
          </a:xfrm>
          <a:prstGeom prst="rect">
            <a:avLst/>
          </a:prstGeom>
          <a:solidFill>
            <a:srgbClr val="b30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143080" y="361800"/>
            <a:ext cx="69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Calibri"/>
              </a:rPr>
              <a:t>VSIX tr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79280" y="168120"/>
            <a:ext cx="2300400" cy="1027440"/>
          </a:xfrm>
          <a:prstGeom prst="rect">
            <a:avLst/>
          </a:prstGeom>
          <a:ln w="0">
            <a:noFill/>
          </a:ln>
        </p:spPr>
      </p:pic>
      <p:pic>
        <p:nvPicPr>
          <p:cNvPr id="111" name="Immagine 1" descr="VSIX2016.png"/>
          <p:cNvPicPr/>
          <p:nvPr/>
        </p:nvPicPr>
        <p:blipFill>
          <a:blip r:embed="rId2"/>
          <a:stretch/>
        </p:blipFill>
        <p:spPr>
          <a:xfrm>
            <a:off x="5240160" y="1366920"/>
            <a:ext cx="3764160" cy="1790640"/>
          </a:xfrm>
          <a:prstGeom prst="rect">
            <a:avLst/>
          </a:prstGeom>
          <a:ln w="0">
            <a:noFill/>
          </a:ln>
        </p:spPr>
      </p:pic>
      <p:pic>
        <p:nvPicPr>
          <p:cNvPr id="112" name="Immagine 2" descr="VSIX2015.png"/>
          <p:cNvPicPr/>
          <p:nvPr/>
        </p:nvPicPr>
        <p:blipFill>
          <a:blip r:embed="rId3"/>
          <a:stretch/>
        </p:blipFill>
        <p:spPr>
          <a:xfrm>
            <a:off x="5240160" y="3157560"/>
            <a:ext cx="3764160" cy="1841400"/>
          </a:xfrm>
          <a:prstGeom prst="rect">
            <a:avLst/>
          </a:prstGeom>
          <a:ln w="0">
            <a:noFill/>
          </a:ln>
        </p:spPr>
      </p:pic>
      <p:pic>
        <p:nvPicPr>
          <p:cNvPr id="113" name="Immagine 3" descr="VSIX2014.png"/>
          <p:cNvPicPr/>
          <p:nvPr/>
        </p:nvPicPr>
        <p:blipFill>
          <a:blip r:embed="rId4"/>
          <a:stretch/>
        </p:blipFill>
        <p:spPr>
          <a:xfrm>
            <a:off x="5240160" y="4998960"/>
            <a:ext cx="3764160" cy="167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88920" y="1525680"/>
          <a:ext cx="5041800" cy="5148000"/>
        </p:xfrm>
        <a:graphic>
          <a:graphicData uri="http://schemas.openxmlformats.org/drawingml/2006/table">
            <a:tbl>
              <a:tblPr/>
              <a:tblGrid>
                <a:gridCol w="1143000"/>
                <a:gridCol w="1901880"/>
                <a:gridCol w="1996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ROUGH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3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5 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1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5 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5 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1440" y="0"/>
            <a:ext cx="9142560" cy="1366920"/>
          </a:xfrm>
          <a:prstGeom prst="rect">
            <a:avLst/>
          </a:prstGeom>
          <a:solidFill>
            <a:srgbClr val="b30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143080" y="361800"/>
            <a:ext cx="69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Calibri"/>
              </a:rPr>
              <a:t>Distribution of ISP in Ita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79280" y="168120"/>
            <a:ext cx="2300400" cy="1027440"/>
          </a:xfrm>
          <a:prstGeom prst="rect">
            <a:avLst/>
          </a:prstGeom>
          <a:ln w="0">
            <a:noFill/>
          </a:ln>
        </p:spPr>
      </p:pic>
      <p:pic>
        <p:nvPicPr>
          <p:cNvPr id="118" name="Immagine 1" descr="Schermata 2015-12-02 alle 15.33.35.png"/>
          <p:cNvPicPr/>
          <p:nvPr/>
        </p:nvPicPr>
        <p:blipFill>
          <a:blip r:embed="rId2"/>
          <a:stretch/>
        </p:blipFill>
        <p:spPr>
          <a:xfrm>
            <a:off x="1633680" y="1446120"/>
            <a:ext cx="5270400" cy="5280120"/>
          </a:xfrm>
          <a:prstGeom prst="rect">
            <a:avLst/>
          </a:prstGeom>
          <a:ln w="0">
            <a:noFill/>
          </a:ln>
        </p:spPr>
      </p:pic>
      <p:sp>
        <p:nvSpPr>
          <p:cNvPr id="119" name="Rettangolo 1"/>
          <p:cNvSpPr/>
          <p:nvPr/>
        </p:nvSpPr>
        <p:spPr>
          <a:xfrm>
            <a:off x="3340080" y="1917720"/>
            <a:ext cx="1333440" cy="1231920"/>
          </a:xfrm>
          <a:prstGeom prst="rect">
            <a:avLst/>
          </a:prstGeom>
          <a:noFill/>
          <a:ln w="12600">
            <a:solidFill>
              <a:srgbClr val="4a7ebb"/>
            </a:solidFill>
            <a:prstDash val="sys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0" y="0"/>
            <a:ext cx="9142560" cy="1366920"/>
          </a:xfrm>
          <a:prstGeom prst="rect">
            <a:avLst/>
          </a:prstGeom>
          <a:solidFill>
            <a:srgbClr val="b30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79280" y="168120"/>
            <a:ext cx="2300400" cy="102744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4010040" y="495360"/>
            <a:ext cx="30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Calibri"/>
              </a:rPr>
              <a:t>Evolution of VS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9280" y="1473120"/>
          <a:ext cx="8586720" cy="5257800"/>
        </p:xfrm>
        <a:graphic>
          <a:graphicData uri="http://schemas.openxmlformats.org/drawingml/2006/table">
            <a:tbl>
              <a:tblPr/>
              <a:tblGrid>
                <a:gridCol w="1598760"/>
                <a:gridCol w="1701720"/>
                <a:gridCol w="2171880"/>
                <a:gridCol w="1536480"/>
                <a:gridCol w="1577880"/>
              </a:tblGrid>
              <a:tr h="673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562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-me-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cation  carr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ice enclo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ute server v4 v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grade Switching capacit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web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king Glass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P 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P W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giga R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bic 10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27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46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 Up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X link back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grade TOPIX lin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m 3 to 10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grade TOPIX lin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m 10 to 20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rade IT infra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grade IP Trans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562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ewall 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V6 compli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 up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ular U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grade coo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ave -15kW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-me-room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ice enclosur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trical Panel Redunda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0"/>
            <a:ext cx="9142560" cy="1366920"/>
            <a:chOff x="0" y="0"/>
            <a:chExt cx="9142560" cy="1366920"/>
          </a:xfrm>
        </p:grpSpPr>
        <p:sp>
          <p:nvSpPr>
            <p:cNvPr id="125" name="Rectangle 3"/>
            <p:cNvSpPr/>
            <p:nvPr/>
          </p:nvSpPr>
          <p:spPr>
            <a:xfrm>
              <a:off x="0" y="0"/>
              <a:ext cx="9142560" cy="1366920"/>
            </a:xfrm>
            <a:prstGeom prst="rect">
              <a:avLst/>
            </a:prstGeom>
            <a:solidFill>
              <a:srgbClr val="b30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4" descr=""/>
            <p:cNvPicPr/>
            <p:nvPr/>
          </p:nvPicPr>
          <p:blipFill>
            <a:blip r:embed="rId1"/>
            <a:stretch/>
          </p:blipFill>
          <p:spPr>
            <a:xfrm>
              <a:off x="179280" y="168120"/>
              <a:ext cx="2300400" cy="10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5"/>
            <p:cNvSpPr/>
            <p:nvPr/>
          </p:nvSpPr>
          <p:spPr>
            <a:xfrm>
              <a:off x="5362560" y="299880"/>
              <a:ext cx="343548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CasellaDiTesto 1"/>
          <p:cNvSpPr/>
          <p:nvPr/>
        </p:nvSpPr>
        <p:spPr>
          <a:xfrm>
            <a:off x="3924360" y="4572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Calibri"/>
              </a:rPr>
              <a:t>Switching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asellaDiTesto 1"/>
          <p:cNvSpPr/>
          <p:nvPr/>
        </p:nvSpPr>
        <p:spPr>
          <a:xfrm>
            <a:off x="444600" y="1498680"/>
            <a:ext cx="84963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irtual Chassis Juniper famiglia 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1 module (48 ports  10/100/1000Bas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2 module (72 fiber ports 1 or 10 Gb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tack Cisco 37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40 ports 10/100/1000Ba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8 ports fiber 1 Gb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orts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6 ports 10Gb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25 ports 1Gb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2 ports 100Mb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1440" y="0"/>
            <a:ext cx="9142560" cy="1366920"/>
          </a:xfrm>
          <a:prstGeom prst="rect">
            <a:avLst/>
          </a:prstGeom>
          <a:solidFill>
            <a:srgbClr val="b30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741840" y="361800"/>
            <a:ext cx="53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Calibri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79280" y="168120"/>
            <a:ext cx="2300400" cy="1027440"/>
          </a:xfrm>
          <a:prstGeom prst="rect">
            <a:avLst/>
          </a:prstGeom>
          <a:ln w="0">
            <a:noFill/>
          </a:ln>
        </p:spPr>
      </p:pic>
      <p:sp>
        <p:nvSpPr>
          <p:cNvPr id="133" name="Ovale 1"/>
          <p:cNvSpPr/>
          <p:nvPr/>
        </p:nvSpPr>
        <p:spPr>
          <a:xfrm>
            <a:off x="1611360" y="1951200"/>
            <a:ext cx="868320" cy="78264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ttangolo 2"/>
          <p:cNvSpPr/>
          <p:nvPr/>
        </p:nvSpPr>
        <p:spPr>
          <a:xfrm>
            <a:off x="3314880" y="4462560"/>
            <a:ext cx="855360" cy="5731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X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uppo 6"/>
          <p:cNvGrpSpPr/>
          <p:nvPr/>
        </p:nvGrpSpPr>
        <p:grpSpPr>
          <a:xfrm>
            <a:off x="3533760" y="1913040"/>
            <a:ext cx="1684440" cy="871560"/>
            <a:chOff x="3533760" y="1913040"/>
            <a:chExt cx="1684440" cy="871560"/>
          </a:xfrm>
        </p:grpSpPr>
        <p:sp>
          <p:nvSpPr>
            <p:cNvPr id="136" name="Rectangle 1"/>
            <p:cNvSpPr/>
            <p:nvPr/>
          </p:nvSpPr>
          <p:spPr>
            <a:xfrm>
              <a:off x="3533760" y="1922040"/>
              <a:ext cx="1684440" cy="86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 Box 11"/>
            <p:cNvSpPr/>
            <p:nvPr/>
          </p:nvSpPr>
          <p:spPr>
            <a:xfrm>
              <a:off x="3742200" y="1913040"/>
              <a:ext cx="12970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38" name="Connettore 2 5"/>
          <p:cNvCxnSpPr>
            <a:stCxn id="133" idx="6"/>
            <a:endCxn id="136" idx="1"/>
          </p:cNvCxnSpPr>
          <p:nvPr/>
        </p:nvCxnSpPr>
        <p:spPr>
          <a:xfrm>
            <a:off x="2479680" y="2343240"/>
            <a:ext cx="1054800" cy="10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9" name="Rettangolo 12"/>
          <p:cNvSpPr/>
          <p:nvPr/>
        </p:nvSpPr>
        <p:spPr>
          <a:xfrm>
            <a:off x="4702320" y="4452840"/>
            <a:ext cx="857160" cy="5731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X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e 18"/>
          <p:cNvSpPr/>
          <p:nvPr/>
        </p:nvSpPr>
        <p:spPr>
          <a:xfrm>
            <a:off x="1708200" y="3355920"/>
            <a:ext cx="869760" cy="7812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Connettore 2 19"/>
          <p:cNvCxnSpPr>
            <a:stCxn id="140" idx="7"/>
          </p:cNvCxnSpPr>
          <p:nvPr/>
        </p:nvCxnSpPr>
        <p:spPr>
          <a:xfrm flipV="1">
            <a:off x="2451240" y="2504520"/>
            <a:ext cx="1235520" cy="965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2" name="Connettore 2 21"/>
          <p:cNvCxnSpPr>
            <a:stCxn id="140" idx="5"/>
            <a:endCxn id="134" idx="1"/>
          </p:cNvCxnSpPr>
          <p:nvPr/>
        </p:nvCxnSpPr>
        <p:spPr>
          <a:xfrm>
            <a:off x="2450880" y="4022640"/>
            <a:ext cx="864360" cy="727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3" name="Ovale 24"/>
          <p:cNvSpPr/>
          <p:nvPr/>
        </p:nvSpPr>
        <p:spPr>
          <a:xfrm>
            <a:off x="6253200" y="3240000"/>
            <a:ext cx="869760" cy="78264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Connettore 2 25"/>
          <p:cNvCxnSpPr>
            <a:stCxn id="143" idx="2"/>
            <a:endCxn id="134" idx="0"/>
          </p:cNvCxnSpPr>
          <p:nvPr/>
        </p:nvCxnSpPr>
        <p:spPr>
          <a:xfrm flipH="1">
            <a:off x="3741480" y="3631680"/>
            <a:ext cx="2512080" cy="831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5" name="Connettore 2 28"/>
          <p:cNvCxnSpPr>
            <a:stCxn id="143" idx="3"/>
            <a:endCxn id="139" idx="3"/>
          </p:cNvCxnSpPr>
          <p:nvPr/>
        </p:nvCxnSpPr>
        <p:spPr>
          <a:xfrm flipH="1">
            <a:off x="5559120" y="3908520"/>
            <a:ext cx="821520" cy="832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6" name="Connettore 2 31"/>
          <p:cNvCxnSpPr>
            <a:stCxn id="143" idx="1"/>
            <a:endCxn id="136" idx="2"/>
          </p:cNvCxnSpPr>
          <p:nvPr/>
        </p:nvCxnSpPr>
        <p:spPr>
          <a:xfrm flipH="1" flipV="1">
            <a:off x="4376160" y="2783880"/>
            <a:ext cx="2004120" cy="572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7" name="Connettore 2 34"/>
          <p:cNvCxnSpPr>
            <a:stCxn id="143" idx="0"/>
            <a:endCxn id="136" idx="3"/>
          </p:cNvCxnSpPr>
          <p:nvPr/>
        </p:nvCxnSpPr>
        <p:spPr>
          <a:xfrm flipH="1" flipV="1">
            <a:off x="5217840" y="2351880"/>
            <a:ext cx="1470240" cy="888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8" name="CasellaDiTesto 23557"/>
          <p:cNvSpPr/>
          <p:nvPr/>
        </p:nvSpPr>
        <p:spPr>
          <a:xfrm>
            <a:off x="4880520" y="31050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IL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asellaDiTesto 40"/>
          <p:cNvSpPr/>
          <p:nvPr/>
        </p:nvSpPr>
        <p:spPr>
          <a:xfrm>
            <a:off x="5999400" y="23302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IE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CasellaDiTesto 3"/>
          <p:cNvSpPr/>
          <p:nvPr/>
        </p:nvSpPr>
        <p:spPr>
          <a:xfrm>
            <a:off x="6033600" y="437040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rect or remote pe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0" y="0"/>
            <a:ext cx="9142560" cy="1366920"/>
          </a:xfrm>
          <a:prstGeom prst="rect">
            <a:avLst/>
          </a:prstGeom>
          <a:solidFill>
            <a:srgbClr val="b30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79280" y="168120"/>
            <a:ext cx="2300400" cy="1027440"/>
          </a:xfrm>
          <a:prstGeom prst="rect">
            <a:avLst/>
          </a:prstGeom>
          <a:ln w="0">
            <a:noFill/>
          </a:ln>
        </p:spPr>
      </p:pic>
      <p:sp>
        <p:nvSpPr>
          <p:cNvPr id="153" name="CasellaDiTesto 4"/>
          <p:cNvSpPr/>
          <p:nvPr/>
        </p:nvSpPr>
        <p:spPr>
          <a:xfrm>
            <a:off x="5191200" y="36684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Calibri"/>
              </a:rPr>
              <a:t>How to conn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Immagine 1" descr=""/>
          <p:cNvPicPr/>
          <p:nvPr/>
        </p:nvPicPr>
        <p:blipFill>
          <a:blip r:embed="rId2"/>
          <a:stretch/>
        </p:blipFill>
        <p:spPr>
          <a:xfrm>
            <a:off x="1533600" y="1452600"/>
            <a:ext cx="6067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07:33:10Z</dcterms:created>
  <dc:creator>stefano merigliano</dc:creator>
  <dc:description/>
  <dc:language>en-US</dc:language>
  <cp:lastModifiedBy>Luca</cp:lastModifiedBy>
  <cp:lastPrinted>2016-06-15T13:51:29Z</cp:lastPrinted>
  <dcterms:modified xsi:type="dcterms:W3CDTF">2016-10-14T12:47:34Z</dcterms:modified>
  <cp:revision>173</cp:revision>
  <dc:subject/>
  <dc:title>Slide con schema rete garr</dc:title>
</cp:coreProperties>
</file>